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6EB3-9E64-4698-B8F7-47E5F5499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6E4D-24B6-462E-B177-62B77A320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8E78-46D9-4B3A-ADFE-1BB2DA0F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C09A-23D1-4CBB-B541-1EC2AA9F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0F4A-3A90-45EF-BED4-7AA055A0B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4812-E735-4EB3-A64E-28DB734C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6BA9-7323-4880-BFC2-1E2AC87B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9EFE-0F53-4177-829E-EA99068A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E954-35DB-45B4-B058-8B3982A6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2C4A-1937-4A2D-B048-CA46FD31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A95A-E6D8-404D-B4B7-B2396F3D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31C6-0375-4A31-B7B5-04322F30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08E4-B2FF-4C7E-94AC-F24088B6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4CA0-83D7-4650-98B3-96CCC717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BA7C-E462-4A52-A5A9-AA1073864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5 Which of the following religions diffused primarily through armed conqu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udd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indu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ik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hinto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5 Which of the following religions diffused primarily through armed conqu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udd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indu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ik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I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hinto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6 __________ consider solstices to be holy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uddh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J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nfuci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hrist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a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6 __________ consider solstices to be holy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uddh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J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nfuci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hrist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Pa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7 _________ typically favors cremation over bu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Juda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ao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hristia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Hindu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7 _________ typically favors cremation over bu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Juda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ao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hristia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Hindu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8 What is the second-highest rank within the Roman Catholic hierarc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rchbish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ish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ardi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ri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8 What is the second-highest rank within the Roman Catholic hierarc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rchbish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ish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Cardi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ri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9 The caste system in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lac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udr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e top of the hier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as created by the Aryan invaders of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oes not affect how individual Hindus practi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i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 enforced by official government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ees the “untouchables” as closest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lighte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9 The caste system in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lac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udr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e top of the hier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Was created by the Aryan invaders of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oes not affect how individual Hindus practi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i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 enforced by official government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ees the “untouchables” as closest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lighte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1 Which of the following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universalizing relig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udd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hristia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Juda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ik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10 Which three religions have holy places in Jerusa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ikhism, Islam, Juda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slam, Christianity, Hindu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induism, Sikhism, Budd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lam, Christianity, Juda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Jainism, Christianity, Juda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10 Which three religions have holy places in Jerusa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ikhism, Islam, Juda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slam, Christianity, Hindu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induism, Sikhism, Budd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Islam, Christianity, Juda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Jainism, Christianity, Juda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06_15"/>
          <p:cNvPicPr/>
          <p:nvPr/>
        </p:nvPicPr>
        <p:blipFill>
          <a:blip r:embed="rId1"/>
          <a:stretch/>
        </p:blipFill>
        <p:spPr>
          <a:xfrm>
            <a:off x="1981080" y="685800"/>
            <a:ext cx="4800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1 Which of the following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universalizing relig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udd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hristia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Juda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ik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2 Roman Catholicism predominate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n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2 Roman Catholicism predominate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n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3 Which of the following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e of the five pillars of Isl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ccept Allah as the one G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Donate to cha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ast during the month of Ramad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Make a pilgrimage to Jerusa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ray five time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3 Which of the following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e of the five pillars of Isl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ccept Allah as the one G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Donate to cha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ast during the month of Ramad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Make a pilgrimage to Jerusa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ray five time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4 In which region are ethnic religions most widely practi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or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4 In which region are ethnic religions most widely practi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or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Unity Rain</cp:lastModifiedBy>
  <dcterms:modified xsi:type="dcterms:W3CDTF">2011-04-24T22:51:04Z</dcterms:modified>
  <cp:revision>83</cp:revision>
  <dc:subject/>
  <dc:title>CRS Chapter 4</dc:title>
</cp:coreProperties>
</file>